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56BB-14B4-4857-AC2B-52F5FDD02FB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EEB8-CECC-4895-8D1C-EBEACD8EAEF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8926-6165-4B4D-828E-75CB23E68EA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DF47-DD6F-4FD0-8B62-F54226AA6B4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3219-CE19-4686-B5F6-BE5F5FCD6A4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0720-2A1F-4B69-97E4-E68638E9425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49DA-EFBF-42B1-9FBD-70E0A867F4A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BC85-6E80-413C-BCA1-C52A5D7FEDE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E315-1585-4233-ACE9-E6D2F8C3B9A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6626-BB66-4D44-8D19-B919E4E6941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DD22-0609-4469-9A37-941D3838CE7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60AB-6A14-45F5-B42E-087C1CE3F22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F2B1-47FE-4B80-886D-158330179FD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75E2-FBC1-4376-9B8D-3C827CA9F23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744A-706D-4B6D-A846-78D99E41172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CF18-57B0-4BEE-BB39-582B776DB87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0054-A346-458D-B00A-DE7B427C4E6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3753-904B-473B-BB87-B3BFC654D2F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810D-E4CA-43FE-A332-0FF1ECD4CDB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0D25-9563-43C1-9775-FEB1B1AAF00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CD00-6582-4AC9-986E-3CF8A30763D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3CE7-4738-4123-905B-55564F45EC6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7644-7188-407F-B16C-9180562AF56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6BD6-A2DC-48C3-96C2-AAA60C89CB2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1A10-678D-45B3-A11F-BA6ADC3217D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18E1-75EE-4B48-90C3-7D472B9D2B0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C472-77EC-4F28-A693-151CA3A10FD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FA82-976D-40A3-8378-37A24E8187A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E420-58B1-46C7-B7AE-8F83171BBFD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45AB-F69F-44DE-A78E-389C6C02B8C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48B8-C762-4BE5-A457-E7F48BA4370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4545-70ED-423C-B405-81960F2839F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2A72-1EA5-42A9-AC8B-F3793D92CDD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B6D3-39E1-4462-8C95-F9F91436EA3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43AE-BE72-4B18-B952-020C0E48AC9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3D66-35C3-48AF-B307-35A226A8063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3FD9-82FC-4E73-AEF0-7B8E817A5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D74A-EDFA-485E-B75C-DBF9BD7F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3BBF-5137-4A14-9EDD-FE693203E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DEB5-1FC7-4AD6-9626-5F6512E89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E86C-157F-49E5-84DD-EE98F63A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D325-D9E0-44FE-B1A7-BF43A75F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1F13-E68C-4BFC-AC84-D3259B5E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B9CE-36BD-4625-95FA-D4EB5CC6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AA69-1A93-40CC-A0B1-631682A6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1FF9-CF20-4F24-BF6F-4F241721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5C04-316C-46CA-A195-F1F80B9A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FF9A-97EA-4BFD-A39B-695267E8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60DB-BD3A-4FFC-A6CC-C38A0CB50027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变化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biànhuà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변화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那个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nàg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저것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그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刮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uā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불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风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fē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바람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地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ìqiú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지구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病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ì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병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병나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严重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yánzhòn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심각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照顾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àog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보살피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è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을 위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ā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그것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开车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āichē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운전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Arial"/>
              </a:rPr>
              <a:t>晴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qí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맑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纸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ǐ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종이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种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ò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심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나무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些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ē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조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약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拍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23808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pāi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찍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习惯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íguà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버릇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습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跑步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pǎob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달리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一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ígò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모두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전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必须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ìxū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5241600"/>
            <a:ext cx="638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반드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해야한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经常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jīngchán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5241600"/>
            <a:ext cx="638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늘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자주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종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阴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ī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흐리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本来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ěnlá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본래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원래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多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"/>
          <p:cNvSpPr/>
          <p:nvPr/>
        </p:nvSpPr>
        <p:spPr>
          <a:xfrm rot="10800000">
            <a:off x="333000" y="664524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duō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얼마나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也许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ěxǔ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어쩌면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아마도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其实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qíshí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사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完全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wánquán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완전히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永远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yǒngyuǎ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영원히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언제나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预报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ùbà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예보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多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uōyú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흐린 날씨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可能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ěné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아마도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带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à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휴대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发音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fāyī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발음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声音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shēngyī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소리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8T01:07:04Z</dcterms:created>
  <dc:creator>System</dc:creator>
  <dc:description/>
  <dc:language>en-US</dc:language>
  <cp:lastModifiedBy>System</cp:lastModifiedBy>
  <dcterms:modified xsi:type="dcterms:W3CDTF">2014-01-28T01:52:14Z</dcterms:modified>
  <cp:revision>5</cp:revision>
  <dc:subject/>
  <dc:title>슬라이드 1</dc:title>
</cp:coreProperties>
</file>